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EFC3-9AE6-48DF-8E4C-C043A20C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9D1F-27EA-41B4-B9C2-282156C7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05D4-3F91-4534-BEEC-DAF1117C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F281-A39C-4C92-B3E7-41E0864A2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07C-AC74-4513-884E-CD22D4AE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6E19-9152-4DFF-8969-166758E3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4C98-E069-4CC4-A0A7-E334745A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989D-2868-4CC8-B98C-0DB55C5C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AEEB-4E4F-4ABB-B08E-AE419699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9DEA-4BEB-4D8D-BFDE-AEDDE832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524-ACEF-4174-91CD-C877DB02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7F7D-E519-42AF-BAE6-91FF9206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165BA-AED6-46F8-9B1B-03369A535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janbrett.com/" TargetMode="External"/><Relationship Id="rId2" Type="http://schemas.openxmlformats.org/officeDocument/2006/relationships/hyperlink" Target="http://www.topics-mag.com/foods/special-foods/global-foods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Site Evaluation 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ing URL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ve W’s of Web Site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762120"/>
          <a:ext cx="9144000" cy="65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65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990720"/>
            <a:ext cx="6019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wrote the pages and are they an exper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a biography of the author inclu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can you find out more about the auth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’s try a few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90920" y="4038480"/>
            <a:ext cx="46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janbrett.com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9528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opics-mag.com/foods/special-foods/global-food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124080" y="5638680"/>
            <a:ext cx="29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go.grolier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may have figured out. It’s not always easy to identify the author of the online web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ho isn’t easy to find sometimes, but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 wh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the sponsor of the web page is easier to figure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es this information come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can I look to find out more about the sponsor of produc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ook at some clues to help us figure out who created the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 Suffi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domain suffi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ing of a web address the .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the .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34120" y="4419720"/>
            <a:ext cx="298764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ain Suffix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3276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er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ed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uca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Bi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Go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m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lit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inf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on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k12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 School Distr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0" y="1600200"/>
            <a:ext cx="1897200" cy="13255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010280" y="1828800"/>
            <a:ext cx="1414440" cy="1981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334120" y="4419720"/>
            <a:ext cx="298764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look at the following web pages together. We will identify who the information came from. What organization is responsible for creating the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pilkey.com/index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activities.macmillanmh.com/reading/treasur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rfall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is information useful for my purpo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should I use this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is page better than ano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mbgnet.ne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dnr.state.wi.us/org/caer/ce/ee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1:44Z</dcterms:created>
  <dc:creator>LLESAGE</dc:creator>
  <dc:description/>
  <dc:language>en-US</dc:language>
  <cp:lastModifiedBy>Administrator</cp:lastModifiedBy>
  <dcterms:modified xsi:type="dcterms:W3CDTF">2009-05-04T18:21:06Z</dcterms:modified>
  <cp:revision>10</cp:revision>
  <dc:subject/>
  <dc:title>Web Site Evaluation Unit</dc:title>
</cp:coreProperties>
</file>